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D36-12F8-4279-B2D1-7A502B8C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BCD-2C05-42AD-8EF5-BC470174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C31-F0FC-48DD-9817-D3363549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7F8-F08E-4404-B0C4-C180EDED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FB1-2CE6-4101-BE5D-C0628423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2B4-E04C-4A5B-A8B8-954F6D55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90A-8F1C-434C-B6A2-42AC8077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81E-BBCE-4D73-BDD8-94E71762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26C-8CE4-4625-927F-850E057C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526-6BCB-4987-82AD-63EB36EA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36F-29D5-415B-BD19-075F39D4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152-DC2F-4EB6-BA7F-BE8211FB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5899-24C4-424D-8AC6-31CABD7CE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oets.org/viewmedia.php/prmMID/5946#imnotsorry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raydillon.com/Images/Writing/Poetry/SheIsAddiction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openartspace.org/pairing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Bodoni MT Black"/>
              </a:rPr>
              <a:t>Visual Po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sto MT"/>
              </a:rPr>
              <a:t>Poetry that is meant to be 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sto MT"/>
              </a:rPr>
              <a:t>Linguistic constructs communicate with visual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sto MT"/>
              </a:rPr>
              <a:t>Any poem is visual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2666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Bodoni MT Black"/>
              </a:rPr>
              <a:t>Si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isual e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hot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r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Quilts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97560" y="1143000"/>
            <a:ext cx="4089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ER OF BEING T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tchen Fletcher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881520" cy="3460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ere bea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 and washed forth and beat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 on rubber raf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ke so much summer flotsa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jetsa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seam between sea and l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he waves spit soap bubbles in ar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ong the sand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e said, "We could stay in the wat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rest of our li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y could bring us hamburgers to eat and Cokes to drink.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No. The whole ocean would be Cok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e could swim in 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drink it too.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the sun stu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chicken-wing shoulder blades golden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our suits and all 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ret plac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d up with sand,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behind us streamed our mermaidens' hair in salty strands.</a:t>
            </a:r>
            <a:br>
              <a:rPr sz="16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 Summer's Reading,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penartspace.org/pairing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ther Outsi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Nick Flyn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black river flows down the cent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each page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on either side the bank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wrapped in snow. My father is ink falling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iny blossoms, a bottl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apped in a paperbag. I want to believ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if I get the story right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will rise, newly formed,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I will stand over him agai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he sleeps outside under the church haloge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this time I will know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to say. It is night &amp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's snowing &amp; starling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l the trees above us, so many it seems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eaves sing. I can't see th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til they rise together at some hidden signal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hold the shape of the tree for a mo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fore scattering. I wait for his breat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lift his blanket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I know he's alive, letting the story settle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the shape of this city. Three girls in the park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to sing something holy, a song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 lost room inside it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their prayerbook comes unglued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scatters. I'll be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finger back, until the bottle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lls, until the bone snaps, save him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destroying his hands. With the tha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ver will rise &amp; he will be forc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higher ground. No one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have to tell him. From my roof I can se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ast River, it looks blackened with oil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it's only the light. Even no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 father is asleep somewhere. If I followed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river north I could still reach hi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poets.org/viewmedia.php/prmMID/168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ther Outsi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Nick Flynn and Josh Neufel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243320" cy="4952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267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9920" y="2819520"/>
            <a:ext cx="2666880" cy="3657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C’s Poetry on Display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n Magazine: Art and Literature Collabo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fter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the gospel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1:25:58Z</dcterms:created>
  <dc:creator>Scott Poole</dc:creator>
  <dc:description/>
  <dc:language>en-US</dc:language>
  <cp:lastModifiedBy>Scott Poole</cp:lastModifiedBy>
  <dcterms:modified xsi:type="dcterms:W3CDTF">2008-01-30T02:41:19Z</dcterms:modified>
  <cp:revision>3</cp:revision>
  <dc:subject/>
  <dc:title>SUMMER OF BEING TEN  Gretchen Fletcher  </dc:title>
</cp:coreProperties>
</file>